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474D8-6826-48F9-B2F5-277B6737E3E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44C-1E2E-46BF-9154-C52E23D0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0DD-4728-42F8-866B-F393032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F1F-97B6-4009-960A-2DFF3D0E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1EE-3243-427C-B9F6-B378F8F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DAA-2C0D-4F5A-AF75-7CA6764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65F-9B12-47F0-845B-24B36B2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232-584D-4641-874C-DDFA33B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0DE-9940-48C9-B547-674A9DD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E78-9E11-478F-BCCA-D488A37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1AD-B419-4229-863F-9A42E2D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9EA-1AA6-483D-ADC1-27E193BC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34A-3CF4-4F56-8996-BB17BFB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918E-9D5E-464B-AA4F-11E7AE4010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sk.com/" TargetMode="External"/><Relationship Id="rId3" Type="http://schemas.openxmlformats.org/officeDocument/2006/relationships/hyperlink" Target="http://www.answer.com/" TargetMode="External"/><Relationship Id="rId4" Type="http://schemas.openxmlformats.org/officeDocument/2006/relationships/hyperlink" Target="http://www.kidwiz.com/" TargetMode="External"/><Relationship Id="rId5" Type="http://schemas.openxmlformats.org/officeDocument/2006/relationships/hyperlink" Target="http://www.nationalgeoghaphic.com/" TargetMode="External"/><Relationship Id="rId6" Type="http://schemas.openxmlformats.org/officeDocument/2006/relationships/hyperlink" Target="http://www.hurricanes.com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979640"/>
            <a:ext cx="82659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: Landrum Drama que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54380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7315200"/>
            <a:ext cx="457200" cy="24444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62940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ricane form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82803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148520"/>
            <a:ext cx="457200" cy="41112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3040" y="6629400"/>
            <a:ext cx="17136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was the first hurrica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1520" y="1979280"/>
            <a:ext cx="4040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Hurricane hit in pilgrims in 1635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99640" y="1979280"/>
            <a:ext cx="4040280" cy="45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315200"/>
            <a:ext cx="457200" cy="200160"/>
          </a:xfrm>
          <a:prstGeom prst="roundRect">
            <a:avLst>
              <a:gd name="adj" fmla="val 7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6286680"/>
            <a:ext cx="171360" cy="34272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342720"/>
              <a:gd name="textAreaBottom" fmla="*/ 342360 h 342720"/>
            </a:gdLst>
            <a:ahLst/>
            <a:rect l="textAreaLeft" t="textAreaTop" r="textAreaRight" b="textAreaBottom"/>
            <a:pathLst>
              <a:path w="21600" h="43155">
                <a:moveTo>
                  <a:pt x="200" y="0"/>
                </a:moveTo>
                <a:arcTo wR="200" hR="200" stAng="16200000" swAng="-5400000"/>
                <a:lnTo>
                  <a:pt x="0" y="42955"/>
                </a:lnTo>
                <a:arcTo wR="200" hR="200" stAng="10800000" swAng="-5400000"/>
                <a:lnTo>
                  <a:pt x="21400" y="43155"/>
                </a:lnTo>
                <a:arcTo wR="200" hR="200" stAng="5400000" swAng="-5400000"/>
                <a:lnTo>
                  <a:pt x="21600" y="200"/>
                </a:lnTo>
                <a:arcTo wR="200" hR="2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can people start a pl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979280"/>
            <a:ext cx="45864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-67788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start a plan by early planing and  buy enough food for the hurricanes.    They use gas for cook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971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2880" y="7559640"/>
            <a:ext cx="273240" cy="473040"/>
          </a:xfrm>
          <a:custGeom>
            <a:avLst/>
            <a:gdLst>
              <a:gd name="textAreaLeft" fmla="*/ 360 w 273240"/>
              <a:gd name="textAreaRight" fmla="*/ 272880 w 27324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37374">
                <a:moveTo>
                  <a:pt x="125" y="0"/>
                </a:moveTo>
                <a:arcTo wR="125" hR="125" stAng="16200000" swAng="-5400000"/>
                <a:lnTo>
                  <a:pt x="0" y="37249"/>
                </a:lnTo>
                <a:arcTo wR="125" hR="125" stAng="10800000" swAng="-5400000"/>
                <a:lnTo>
                  <a:pt x="21475" y="37374"/>
                </a:lnTo>
                <a:arcTo wR="125" hR="125" stAng="5400000" swAng="-5400000"/>
                <a:lnTo>
                  <a:pt x="21600" y="125"/>
                </a:lnTo>
                <a:arcTo wR="125" hR="12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6694560"/>
            <a:ext cx="228600" cy="65160"/>
          </a:xfrm>
          <a:prstGeom prst="roundRect">
            <a:avLst>
              <a:gd name="adj" fmla="val 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587520"/>
            <a:ext cx="82756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any days can a hurricane last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ricane John was the longest hurricane in 1994 it lasted 31 d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440" y="197964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st hurricane was in 1978 it lasted 5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0" y="7315200"/>
            <a:ext cx="384120" cy="24444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4240" y="6400800"/>
            <a:ext cx="200160" cy="228600"/>
          </a:xfrm>
          <a:custGeom>
            <a:avLst/>
            <a:gdLst>
              <a:gd name="textAreaLeft" fmla="*/ 360 w 200160"/>
              <a:gd name="textAreaRight" fmla="*/ 199800 w 200160"/>
              <a:gd name="textAreaTop" fmla="*/ 360 h 228600"/>
              <a:gd name="textAreaBottom" fmla="*/ 228240 h 228600"/>
            </a:gdLst>
            <a:ahLst/>
            <a:rect l="textAreaLeft" t="textAreaTop" r="textAreaRight" b="textAreaBottom"/>
            <a:pathLst>
              <a:path w="21600" h="24664">
                <a:moveTo>
                  <a:pt x="171" y="0"/>
                </a:moveTo>
                <a:arcTo wR="171" hR="171" stAng="16200000" swAng="-5400000"/>
                <a:lnTo>
                  <a:pt x="0" y="24493"/>
                </a:lnTo>
                <a:arcTo wR="171" hR="171" stAng="10800000" swAng="-5400000"/>
                <a:lnTo>
                  <a:pt x="21429" y="24664"/>
                </a:lnTo>
                <a:arcTo wR="171" hR="171" stAng="5400000" swAng="-5400000"/>
                <a:lnTo>
                  <a:pt x="21600" y="171"/>
                </a:lnTo>
                <a:arcTo wR="171" hR="17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67040"/>
            <a:ext cx="8275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596520"/>
                <a:tab algn="l" pos="10053720"/>
                <a:tab algn="l" pos="105109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ime Ochoa ,Richard Mendoza,Adalith pelcastr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315200"/>
            <a:ext cx="228600" cy="244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244440"/>
              <a:gd name="textAreaBottom" fmla="*/ 244080 h 244440"/>
            </a:gdLst>
            <a:ahLst/>
            <a:rect l="textAreaLeft" t="textAreaTop" r="textAreaRight" b="textAreaBottom"/>
            <a:pathLst>
              <a:path w="21600" h="23094">
                <a:moveTo>
                  <a:pt x="150" y="0"/>
                </a:moveTo>
                <a:arcTo wR="150" hR="150" stAng="16200000" swAng="-5400000"/>
                <a:lnTo>
                  <a:pt x="0" y="22944"/>
                </a:lnTo>
                <a:arcTo wR="150" hR="150" stAng="10800000" swAng="-5400000"/>
                <a:lnTo>
                  <a:pt x="21450" y="23094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543800"/>
            <a:ext cx="228600" cy="15840"/>
          </a:xfrm>
          <a:prstGeom prst="roundRect">
            <a:avLst>
              <a:gd name="adj" fmla="val 1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70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s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nswe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kidwiz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nationalgeogh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hurrican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543800"/>
            <a:ext cx="28440" cy="15840"/>
          </a:xfrm>
          <a:prstGeom prst="roundRect">
            <a:avLst>
              <a:gd name="adj" fmla="val 1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3:53:59Z</dcterms:created>
  <dc:creator/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